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13977"/>
        <c:axId val="9464917"/>
      </c:barChart>
      <c:catAx>
        <c:axId val="70213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4917"/>
        <c:crosses val="autoZero"/>
        <c:auto val="1"/>
        <c:lblAlgn val="ctr"/>
        <c:lblOffset val="100"/>
        <c:noMultiLvlLbl val="0"/>
      </c:catAx>
      <c:valAx>
        <c:axId val="9464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13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B0E-251C-4D74-B452-0AD1FD08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A94-4AF5-455C-BCFA-56D2F2D6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BFE-1979-461A-B5D5-DAB8F794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73D-7B28-4BD3-BA9B-BBB9E9FE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88F-D405-464B-8810-C9A059C3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02A-85DF-49A1-9CFB-98D46ECC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641-810B-4A05-B3CE-0A5121E9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085-FBF5-484B-A784-F03ECCFC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EB1-D4FE-42DF-934A-E525E5D5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2AA-7A33-4061-A801-8B031035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3B5-F673-4BEE-8875-1D4DBE07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E94-2C39-4C7D-92A9-2CCA674A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5F9DF-F02E-40A6-B8E5-A6EFDE9EB0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