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22431"/>
        <c:axId val="58862737"/>
      </c:barChart>
      <c:catAx>
        <c:axId val="75922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62737"/>
        <c:crosses val="autoZero"/>
        <c:auto val="1"/>
        <c:lblAlgn val="ctr"/>
        <c:lblOffset val="100"/>
        <c:noMultiLvlLbl val="0"/>
      </c:catAx>
      <c:valAx>
        <c:axId val="588627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22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ED9-7A4E-433D-9AEF-16B63D18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475-6773-4B15-BC8F-5BB99145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615-EB75-4BE4-B371-1CE05534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E2C-623B-458B-9429-49177E5D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93C-5464-40FC-983D-786ED975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FA6-91D5-44DB-B1FE-BA608589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C861-A338-4783-BF21-6E419C86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E547-EABA-4A69-9092-25C96121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5475-BF39-44C7-82FA-76AF2178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DA7-6E9A-4724-B3C0-5794B7C7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BCB-D2D5-4E7C-81EE-4FD28718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6D8C-FDFB-45E9-A28F-B72FCC5D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12EE9-F689-4576-9358-44126D4894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