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88561"/>
        <c:axId val="54453726"/>
      </c:barChart>
      <c:catAx>
        <c:axId val="50888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3726"/>
        <c:crosses val="autoZero"/>
        <c:auto val="1"/>
        <c:lblAlgn val="ctr"/>
        <c:lblOffset val="100"/>
        <c:noMultiLvlLbl val="0"/>
      </c:catAx>
      <c:valAx>
        <c:axId val="54453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88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1CE-1F94-4247-802D-8E803FA7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76A-FAC7-4E4F-8C43-B139E5E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4C9-E879-4888-8751-10E89148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36B-05B8-4B8B-8CDC-96868493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257-9658-491C-B6E4-4D6F39B9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6BF-0E2B-4E26-9F04-8F9BD25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BD7-09B3-413C-A16A-A01B07A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60-1CB5-4FDA-A66B-AC1E97FE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10F-44C2-4B4F-90F6-1F181F4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A38-3E83-4280-9155-6055E1B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F04-891B-4057-A100-68D696E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D0A-1530-4546-9B77-BB37C4A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4E94E-9CD6-454E-8A91-7D4AF624B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